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306-765B-4614-9D5A-D1AFC72E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5CA-F2B0-4B11-B0B3-5277811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942-F098-4F20-A6E0-A4C0FEA6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0DA-7103-4C46-9C3B-C0088045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6A7-1C0C-463E-B866-B57CCF19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951-92EB-4961-BC47-75259211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947-4AED-4972-9F3C-83543AF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553-568B-4695-A844-DC402D2E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548-D8A7-42D6-8004-50D11D46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FDA-902C-4475-A2FE-80E2538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021-3D64-42EC-AA71-4F8EA53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FAE-D88A-4AA2-A154-EBF43AB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6706-9AD3-4638-90D8-C985E794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51051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студентка 4 курса филологического факультета КГП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арышева Тат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762120"/>
            <a:ext cx="70484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7 чудес</a:t>
            </a:r>
            <a:endParaRPr b="1" lang="en-US" sz="80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Древнего Рима </a:t>
            </a:r>
            <a:endParaRPr b="1" lang="en-US" sz="80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Есть ли чуде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на свет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ие чудеса есть в Древнем Ри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 использовались чудеса в Древнем Ри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ем они были созд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огда эти чудеса были созд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27432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 rot="19012200">
            <a:off x="6019920" y="182844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3733560" y="15238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rot="5400000">
            <a:off x="3771360" y="430524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741200">
            <a:off x="6095520" y="40381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8388000">
            <a:off x="1371240" y="41140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 rot="13389600">
            <a:off x="1295280" y="175176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04920" y="685800"/>
            <a:ext cx="15238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3352680" y="304920"/>
            <a:ext cx="1676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6781680" y="83808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28600" y="4800600"/>
            <a:ext cx="160020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505320" y="5181480"/>
            <a:ext cx="15238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6781680" y="4724280"/>
            <a:ext cx="152424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будем изучать следующи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ру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Большой Ци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орум Тра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Аквед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рмы Карак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анте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оли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90px-Panorama_Circus_Maximus"/>
          <p:cNvPicPr/>
          <p:nvPr/>
        </p:nvPicPr>
        <p:blipFill>
          <a:blip r:embed="rId1"/>
          <a:stretch/>
        </p:blipFill>
        <p:spPr>
          <a:xfrm>
            <a:off x="2743200" y="579132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rajan_Forum"/>
          <p:cNvPicPr/>
          <p:nvPr/>
        </p:nvPicPr>
        <p:blipFill>
          <a:blip r:embed="rId2"/>
          <a:stretch/>
        </p:blipFill>
        <p:spPr>
          <a:xfrm>
            <a:off x="228600" y="990720"/>
            <a:ext cx="22096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kveduk"/>
          <p:cNvPicPr/>
          <p:nvPr/>
        </p:nvPicPr>
        <p:blipFill>
          <a:blip r:embed="rId3"/>
          <a:stretch/>
        </p:blipFill>
        <p:spPr>
          <a:xfrm>
            <a:off x="6934320" y="3352680"/>
            <a:ext cx="1874880" cy="140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_39036_cc2567f5_L"/>
          <p:cNvPicPr/>
          <p:nvPr/>
        </p:nvPicPr>
        <p:blipFill>
          <a:blip r:embed="rId4"/>
          <a:stretch/>
        </p:blipFill>
        <p:spPr>
          <a:xfrm>
            <a:off x="228600" y="25909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h01407"/>
          <p:cNvPicPr/>
          <p:nvPr/>
        </p:nvPicPr>
        <p:blipFill>
          <a:blip r:embed="rId5"/>
          <a:stretch/>
        </p:blipFill>
        <p:spPr>
          <a:xfrm>
            <a:off x="7010280" y="914400"/>
            <a:ext cx="1623960" cy="22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vat77"/>
          <p:cNvPicPr/>
          <p:nvPr/>
        </p:nvPicPr>
        <p:blipFill>
          <a:blip r:embed="rId6"/>
          <a:stretch/>
        </p:blipFill>
        <p:spPr>
          <a:xfrm>
            <a:off x="6553080" y="5029200"/>
            <a:ext cx="2238480" cy="13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Italya_Kolizey"/>
          <p:cNvPicPr/>
          <p:nvPr/>
        </p:nvPicPr>
        <p:blipFill>
          <a:blip r:embed="rId7"/>
          <a:stretch/>
        </p:blipFill>
        <p:spPr>
          <a:xfrm>
            <a:off x="228600" y="4419720"/>
            <a:ext cx="1981080" cy="15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еделение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600200"/>
          <a:ext cx="8458200" cy="4541760"/>
        </p:xfrm>
        <a:graphic>
          <a:graphicData uri="http://schemas.openxmlformats.org/drawingml/2006/table">
            <a:tbl>
              <a:tblPr/>
              <a:tblGrid>
                <a:gridCol w="1981080"/>
                <a:gridCol w="2828880"/>
                <a:gridCol w="364824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Большой Цир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ум Трая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Аквед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Термы Карак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р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нте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лиз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3 НЕД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Этапы проведения проек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ыбор и формулировка тем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Поиск информаци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Самостоятельная работа учащихс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Защита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http://artclassic.edu.ru/catalog.asp?ob_no=19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http://historic.ru/books/item/f00/s00/z0000017/st019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Энциклопедия « Атлас чудес света. Современный мир»   ( Широнина 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  <a:ea typeface="Arial"/>
              </a:rPr>
              <a:t>Энциклопедия «Чудеса света. Древний мир» (Калашников В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9T04:52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